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F0582-176D-4589-8654-327898787B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4AB58-7E00-4EE0-AF50-FE925393FE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2B387-90D4-4FA4-86C5-68E1B7DAF9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6A43E-6F8C-43B2-B9BD-B1AC096905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55C81-5419-4A1D-A3BD-D9858B50C5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C2444-0BAE-4F69-A2B5-BE7FCA4850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102D4-F757-4B8F-8E8A-6C86D9646C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B5834-3F6B-4DD1-9BA1-DCD5594AB8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92016-3BB5-46FB-BEFF-2525F52671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EF0F3-C382-4BD4-8958-47630D7C47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10288-8FF4-41EF-AFAA-EBD13F64B0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9B83E-54C1-4300-A620-89E94E2874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2A13-B708-43AB-9990-C3D9F42CF55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2E9CA-5A94-48A5-833B-D0F01B3622E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57200" y="159984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Camp Journal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09120" y="1599840"/>
            <a:ext cx="5257800" cy="3429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strategies do you use in your classroom to help students with patterning and algebr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2BC4-E0CE-4BB4-9FAF-9D1663BA966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http://freetechjournal.com/blog/wp-content/uploads/2010/12/press-journal.gif"/>
          <p:cNvPicPr/>
          <p:nvPr/>
        </p:nvPicPr>
        <p:blipFill>
          <a:blip r:embed="rId1"/>
          <a:stretch/>
        </p:blipFill>
        <p:spPr>
          <a:xfrm>
            <a:off x="6019920" y="1600200"/>
            <a:ext cx="2514600" cy="300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Find Your Pattern Pardner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other representations of your linear re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44CEE-5692-48E4-BEE1-E9EF74747C2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D22F8-EA72-4B15-90A7-5D77A81BF41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Breakout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e want to explore the big ideas in Algebraic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e want to explore how we can support students by providing feedback in the moment that supports their lear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3D0C3-C04E-4BE3-B488-5FC4E348E8C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A task for you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B145A-70E5-4BB1-BD0E-4714512D1A6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5257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2"/>
          <a:stretch/>
        </p:blipFill>
        <p:spPr>
          <a:xfrm>
            <a:off x="2286000" y="1600200"/>
            <a:ext cx="6381720" cy="45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Gallery Wal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alk a walk and look at the solutions from the other grou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93659-FF64-425D-BCD4-BB3B97C15C8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Looking at student work…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types of responses do you anticip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D4CE9-B457-43D1-812D-6E9B44E7F8B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Looking at student work…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ink of the feedback you could provide the stu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f the student has solved the problem, think of a challenge problem that you could provide the stu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f the student seems to be struggling, think of a scaffold question for the stu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0B614-ABB3-42E1-9DDA-6898427C380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Pass it on…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57200" y="1752480"/>
          <a:ext cx="8229600" cy="2468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lleng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ution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8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7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68713-FDFC-42A7-AA93-C0279A83A0F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Gallery Wal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alk a walk and look at the collected work from all of the grou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15141-E714-4844-8F40-D161E17E1ED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Paul Alves</cp:lastModifiedBy>
  <dcterms:modified xsi:type="dcterms:W3CDTF">2011-08-12T03:52:58Z</dcterms:modified>
  <cp:revision>17</cp:revision>
  <dc:subject/>
  <dc:title>&lt;Title&gt;</dc:title>
</cp:coreProperties>
</file>